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1D1-70E9-4FBB-B9D1-DE249665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86B-0F76-489D-9A5D-5543C521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49B-F1F0-4B4E-BA1E-307E90DF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1C9-1B28-4DDE-A779-A651D852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416A-1B56-432C-BCA9-8A1C9B21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FF45-BB31-4EE7-8DCF-29605208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2F22-08B6-44D8-A135-B5FDBE31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7E7D-2569-4468-A7BE-6E6793D0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ED21-1D98-4AB2-BB77-76B58922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A96B-ABCF-447E-A57D-230814A4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267F-6A1B-440E-9B9E-2C1319A8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5F5-2951-4832-BB0B-0F686797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8D83-E1C4-4210-8374-F3731002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2867-C39A-426B-9011-82C46372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CF97-C836-4998-8456-F46C177E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D72C-DB28-4F42-A427-4262551A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ACE5-C981-41B0-8DDE-CD605090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7F5-9BBC-4642-A0F7-ADA89D82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102-BBC0-4DA4-A67D-27FE0031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F44-5C71-4945-98A6-C1C4FD2F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B4A-6F72-4AD3-A857-A9AF3DC4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310-A09B-49A0-B06F-3A6E4FDB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EDD-535D-4048-8C27-78647D8A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7F7-0F02-49A2-A9A6-8EE7B668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A67D-76B7-4A46-BFF2-8039227BB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4877-0E0A-4BD2-9748-53BB26E56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Iroquois Indians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76160" y="55627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d by: Krista Qu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190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w do you pronounce Iroquois?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nunciation: eer-uh-kwo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me Iroquois was given to them by their enemies, the Algonkian, as an insult. Ask students if they know what an enemy i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me Iroquois actually means "real snakes” in Algonki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 the Iroquois call themselve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udenosaun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x Na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quois Indians lived in an area of the United States called the Woodland Reg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276720" cy="3429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32767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819520"/>
            <a:ext cx="365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971800"/>
            <a:ext cx="46479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, they lived in the area of the United States that is now known as New York St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ive Tribes in Iroquois Nation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haw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e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ond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y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r, the tribe Tuscarora joined the Confedera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What kinds of houses did they hav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quois Indians lived in longhou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quois longhouses were up to a hundred feet long!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each longhouse there lived 2 or more families together, this is called a clan (up to 60 people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Native Americans - Indian Homes, Native Housing, Tipis, Wigwams and Longhouses - Longhouse Hobbamock Plimouth"/>
          <p:cNvPicPr/>
          <p:nvPr/>
        </p:nvPicPr>
        <p:blipFill>
          <a:blip r:embed="rId1"/>
          <a:stretch/>
        </p:blipFill>
        <p:spPr>
          <a:xfrm>
            <a:off x="1295280" y="4648320"/>
            <a:ext cx="3048120" cy="2035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Native Americans - Indian Homes, Native Housing, Tipis, Wigwams and Longhouses - longhouse interior "/>
          <p:cNvPicPr/>
          <p:nvPr/>
        </p:nvPicPr>
        <p:blipFill>
          <a:blip r:embed="rId2"/>
          <a:stretch/>
        </p:blipFill>
        <p:spPr>
          <a:xfrm>
            <a:off x="4724280" y="4648320"/>
            <a:ext cx="3276720" cy="20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What were men and women’s jobs in the Iroquois Nation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jo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quois men were in charge of hunting, trading, and w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quois women were in charge of farming, property, and famil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id the Iroquois Indians travel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traveled by canoe on the water or by foot on l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id not use wheeled cars or ride anim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14600" y="3733920"/>
            <a:ext cx="358128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was Iroquois music lik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wo most important Iroquois instruments are drums and flu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ms were often filled with water to give them a different sound from all the other trib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243828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was their food lik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quois women did most of the farming, growing corn, beans, and squash and harvesting wild berries and h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quois men did most of the hunting, shooting deer and elk and fishing in the riv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3:33Z</dcterms:created>
  <dc:creator>Krista</dc:creator>
  <dc:description/>
  <dc:language>en-US</dc:language>
  <cp:lastModifiedBy>Krista</cp:lastModifiedBy>
  <dcterms:modified xsi:type="dcterms:W3CDTF">2009-04-14T21:00:01Z</dcterms:modified>
  <cp:revision>7</cp:revision>
  <dc:subject/>
  <dc:title>Iroquois Indians</dc:title>
</cp:coreProperties>
</file>